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ct" ContentType="image/x-pict"/>
  <Override PartName="/ppt/media/image1.jpeg" ContentType="image/jpeg"/>
  <Override PartName="/ppt/media/image9.jpeg" ContentType="image/jpeg"/>
  <Override PartName="/ppt/media/image13.pct" ContentType="image/x-pict"/>
  <Override PartName="/ppt/media/image4.jpeg" ContentType="image/jpeg"/>
  <Override PartName="/ppt/media/image2.png" ContentType="image/png"/>
  <Override PartName="/ppt/media/image3.jpeg" ContentType="image/jpeg"/>
  <Override PartName="/ppt/media/image5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8DB4-FD26-4EE4-A436-7C6442C9E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3C83-40EA-4337-856D-17B63F8C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46E0-3F2E-4C98-BA1C-3EB6F354A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D235-293E-4CC2-8C29-76318B51F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083EC-1F89-4E42-8056-24ED38856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C5C94-857E-45AD-8B54-45CBE8B13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EAD1B-CAB2-4F65-B8AF-C67A762CF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FA84A-16B9-472B-BAE6-578F092E0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883C1-DC1E-42F9-BBCC-ACB0EFFE0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CEC4A-5B33-475B-8EB8-356164E74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2DE9D-2124-4BA8-A15E-DCE977B0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FCF9-43EF-4843-B1BA-3169F4CC6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A92DE-4C17-4B94-B4BA-9C6E579F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DC581-D729-4D9A-A709-22B8978D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8A278-E492-411D-A99E-EE754064C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AF151-9845-4521-93B1-6A820A67F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5CE96-DFD9-4161-AA0B-DE522A242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D1EB-C8A2-4126-91E0-C526690EE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5734-89AF-4CF9-BB25-D8AD1A04D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FBEB-8166-42C1-8BAF-C1374DC3D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644C-BFBC-42C4-B95E-C503D71FC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1A7F-AC5B-4EBF-B931-164306BF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33B3-8973-44D6-9FEC-83073339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8207-F15B-42EE-BA35-2A9DA59D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152280" y="152280"/>
              <a:ext cx="152640" cy="152640"/>
            </a:xfrm>
            <a:prstGeom prst="rect">
              <a:avLst/>
            </a:prstGeom>
            <a:solidFill>
              <a:srgbClr val="ffe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80880" y="152280"/>
              <a:ext cx="152640" cy="152640"/>
            </a:xfrm>
            <a:prstGeom prst="rect">
              <a:avLst/>
            </a:prstGeom>
            <a:solidFill>
              <a:srgbClr val="ffe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2280" y="380880"/>
              <a:ext cx="152640" cy="152640"/>
            </a:xfrm>
            <a:prstGeom prst="rect">
              <a:avLst/>
            </a:prstGeom>
            <a:solidFill>
              <a:srgbClr val="ffe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2280" y="609480"/>
              <a:ext cx="152640" cy="152640"/>
            </a:xfrm>
            <a:prstGeom prst="rect">
              <a:avLst/>
            </a:prstGeom>
            <a:solidFill>
              <a:srgbClr val="ffe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09480" y="152280"/>
              <a:ext cx="152640" cy="152640"/>
            </a:xfrm>
            <a:prstGeom prst="rect">
              <a:avLst/>
            </a:prstGeom>
            <a:solidFill>
              <a:srgbClr val="ffe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80880" y="380880"/>
              <a:ext cx="152640" cy="152640"/>
            </a:xfrm>
            <a:prstGeom prst="rect">
              <a:avLst/>
            </a:prstGeom>
            <a:solidFill>
              <a:srgbClr val="ffe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" name="" descr=""/>
            <p:cNvPicPr/>
            <p:nvPr/>
          </p:nvPicPr>
          <p:blipFill>
            <a:blip r:embed="rId3"/>
            <a:stretch/>
          </p:blipFill>
          <p:spPr>
            <a:xfrm>
              <a:off x="3240" y="1828800"/>
              <a:ext cx="9140760" cy="23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FDC8E-95BC-4F3A-ADF1-47A7AAF1771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655B0-1276-4286-9AE5-7F84F9F3AE9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ct"/><Relationship Id="rId3" Type="http://schemas.openxmlformats.org/officeDocument/2006/relationships/image" Target="../media/image12.pct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1066320"/>
            <a:ext cx="769608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ヒラギノ角ゴ Pro W3"/>
              </a:rPr>
              <a:t>_x0016__x0016_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Plains Indians – Lakota </a:t>
            </a:r>
            <a:endParaRPr b="0" lang="en-US" sz="5400" spc="-1" strike="noStrike">
              <a:solidFill>
                <a:srgbClr val="ffffff"/>
              </a:solidFill>
              <a:latin typeface="Futur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809880" y="2286000"/>
            <a:ext cx="175284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Name of tribe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led themselves Lako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nch later gave them the name Sioux, which mean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y o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581280" y="3675240"/>
            <a:ext cx="4724640" cy="31064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4648320"/>
            <a:ext cx="2878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theage.com.au/ffximage/2007/04/16/snake,0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Territory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191120" cy="43434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akota tribe lived in the great plains of Kansas, North and South Dakota’s, Wyoming and Nebrask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Ihanktonwan, or Yankton make up the Middle division (Nakota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itonwan or Teton make up the Eastern division (Lakota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181480" y="990720"/>
            <a:ext cx="28940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Environment/ Landscape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 plains, mixed grasses, rolling hills, sandhills, and canyons, formed by the Missouri riv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thern forests along the upper Mississippi Riv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971800" y="3962520"/>
            <a:ext cx="3683160" cy="2655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38040" y="5268960"/>
            <a:ext cx="2024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newsimg.bbc.co.uk/media/images/42436000/jpg/_42436806_01harrismith300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Food 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gathered materials such as potatoes, onions, turnips, strawberries, plums, and grapes(called them wild plan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de would go on with cultures that would stay around in one area, farmers for examp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ffalo Meat prepar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was dried and saved for l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ffalo “steak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t in hide bags with melted fat; lasted 3-4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400800" y="304920"/>
            <a:ext cx="2209680" cy="1657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352680" y="304920"/>
            <a:ext cx="2211480" cy="1658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07600" y="6072120"/>
            <a:ext cx="576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mnsu.edu/emuseum/history/mncultures/lakota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Clothing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620120" cy="2819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ffalo hides(skin) were used to make robes(worn in the winter), moccasins, and bag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st of the hide work &amp; beading was done by wom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ading was done in honor of the spirit wor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men wore dresses with leggings &amp; men wore shirts and breechcloth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ccasins were the dominant shoe wo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200400" y="5105520"/>
            <a:ext cx="2209680" cy="15206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715000" y="5105520"/>
            <a:ext cx="1424160" cy="1523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7315200" y="4114800"/>
            <a:ext cx="1444680" cy="2438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44440" y="5140440"/>
            <a:ext cx="287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ic.arizona.edu/ic/kmartin/School/lakota12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7800" y="5813280"/>
            <a:ext cx="245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mages from Google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Housing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ir houses were tepe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ause they roamed the plans following the buffalo herds, they needed housing that was light weight and could be taken apart in minute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tepees were made from buffalo hi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rm in the winter &amp; then cool in the summ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38080" y="4419720"/>
            <a:ext cx="2895840" cy="22381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486400" y="5791320"/>
            <a:ext cx="3102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http://www.ic.arizona.edu/ic/kmartin/School/lakotatipi.html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Transportation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llowed the buffalo herd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horses for long destination traveling in mid 1700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kota used bullboats (round framework of willow, covered with buffalo skins) on the river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267080" y="4343400"/>
            <a:ext cx="3353040" cy="2246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74760" y="4653000"/>
            <a:ext cx="2292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tallgrassbuffalo.com/images/herd1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14:02:11Z</dcterms:created>
  <dc:creator>Yarmouth Schools</dc:creator>
  <dc:description/>
  <dc:language>en-US</dc:language>
  <cp:lastModifiedBy>Amy Bongard</cp:lastModifiedBy>
  <cp:lastPrinted>2008-09-05T14:07:30Z</cp:lastPrinted>
  <dcterms:modified xsi:type="dcterms:W3CDTF">2009-09-03T14:21:26Z</dcterms:modified>
  <cp:revision>14</cp:revision>
  <dc:subject/>
  <dc:title>PowerPoint Presentation</dc:title>
</cp:coreProperties>
</file>